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C23F6-6E38-4EE9-A19C-AC6FB2AB2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EE860-7190-4E34-A079-BC9BED0C5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1B7F31-58FC-474E-9B2F-776FF2A67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B26D6-5233-4EED-AE1B-1B5D82F4A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14DF46-1478-42BC-BDE8-F81D05B8A2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88A58-2C25-48DA-96DE-B95510184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8EEAB-F40F-4356-976F-DD8CE5EAF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0C0C90-83F3-4F2D-88BF-17A31E6C8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71B7C-1F6D-4BEE-A549-ED76187B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FA7B6-28AD-41E0-8F58-B039E0560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10245-8528-4C7F-A342-3BCD16EAF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6586E-9C9A-4BCD-8A56-104F1D422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FA09A-86F9-4982-9D9E-9EA46CAD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F5732-AB00-44FC-A2B8-1BAA6B886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CAC26-3468-48ED-BE1C-DDB3FD9B2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47D848-D32D-4C7F-9A50-F351C13F5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5D058-8EAC-4966-BC3E-11F84D991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FF969C-5BD3-4B5C-9D60-A992DFAF04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037A20-16B9-41D1-AC2E-752CDD914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FCCF0D-8905-4A2C-AAE6-FF37E8178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EC318-C702-4984-88D4-5C0732113B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EF2CF-329D-48E4-8019-DE62462F30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F11C8-FED1-469C-A179-75A2EE736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F77A50-C5F2-4412-97AF-27D3FF66C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48A1A-EE15-4A8A-BD13-A2715A8906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779E27-DFEA-4DAC-B912-58A7A65D4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0F1FE0-9B57-4C06-9E21-46AA74565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AAD73D-F870-43F1-89A0-C1AB819977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316E78-6DE2-4ABE-A564-E4BD458640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9F836-3670-4580-A5A5-579AB03F2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5EECD1-76A6-4146-BF92-B0D7F28211F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17616-5756-4438-90D4-79B45C042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FA83C9-3DE5-43C7-9938-48891F602D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E0C8A-020B-4BC7-AE1E-A49A9B787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7DDED-5E56-46A9-B947-E9EC8B742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8B1FEF-7FCC-483C-8B61-8814115D1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AF4C3B-D729-4FF9-B985-86CCAF5F2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DC734-CEB3-432D-B14B-8BFB0D2F2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CD6F6-8583-45EC-8948-7C29CC17B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7BF24B-6E2C-4889-A97A-3A36FB0B5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DAD7F6-A47B-40DF-A4E0-819B87FD7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687B5-437C-4196-874A-0C9042E5E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93318-80DD-49A2-B3CC-081BC8C4E7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C71ECF-B6EB-46E0-9E21-BA77FCC651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74B52-4C5D-4C84-A322-3E0ECD9A2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28BCC-CFAD-4454-AEBC-47E04509C0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6FB6F-0009-4388-8562-3E5946163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AC9D77-C784-4B2F-AAF1-162A77EA5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450895-3ACF-4090-8F65-8DAEAA378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34014F-3A79-48EB-BBC4-D7737F47F4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A9893C-B00D-4726-8A3D-CB48008BC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9BE84-CF56-4757-B672-64EDBA1F5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CBACB5-1CBA-427C-81C4-749AC243C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74F36-15CB-4F0E-AE81-66B6A4383B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2D0577-8342-45A8-8977-1D87699AB1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317BD-7F92-4069-9C6C-2B01207F4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CD69AA-2A28-4BCE-8140-315C34E556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D977B-79E5-48E7-B96E-E4031B158B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43E6D6-7F9E-4403-9C9C-A6C0815FAA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6BF2A5-C3E7-4EB4-BB2F-7A0536E980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B3A350-0F49-46AF-B499-ED97027811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F946D-87EE-4129-A090-134717D8D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AC71E-59E5-4D76-8577-5799C69F63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9F65A-53E6-4ABE-94EF-3E143B8D8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AC8FC3-D173-4690-B8C1-9DFF70DBA3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1EC152-A8B3-459C-BD3E-1B280EBA6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D276-DEDA-42D0-A7ED-EC259B07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B4D74-15C2-42A4-9431-C634E429B6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74B07E-7B04-405F-8EC0-9CE94EA225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1DF586-CDC3-4F7A-B9A5-D27A68ECC8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68024-735F-4950-8404-F4ADE3D3E8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8461E-915D-46D8-815F-8F721BB3F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8CB6D1-485F-4EBD-AEFE-15CAE1EAD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BFDE82-2932-4896-BCF2-02C934EAB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E7C75-67DF-4C2A-9773-0D1C0EFDE9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5EBB55-C0D1-46E2-82D8-89200A8E67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B9928C-6C76-4393-80F9-F997512204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5A716-F8A8-44FE-84AF-DCC419718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2F595C-FF2E-4F39-B8B4-8B4940E50E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1544D-F623-4283-BA95-D3D55FE232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B5CD2-4994-4C42-A9A4-33BD93E13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483D63-00B2-4B83-A3F1-344DB886C7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722933-AEB7-49BC-BFDC-0BE6B90040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38C033-FB0F-42A1-871F-3E3579A78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D16945-4BB8-4C93-BC48-E3466D0559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AA7AB5-068C-45C6-AC11-C601F21A3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85482-F209-4F30-B5D5-8F29DDAEC3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9085ED-9B81-47BE-A1FC-7385A6096C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E821-FDCF-4548-8BE9-4F322D65C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C2963-6E93-4EDA-AD51-8035A14A8F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57823-C55E-405E-9FD8-60A9F85C2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D4A7E-3870-45D3-947C-CF36AC7EAA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6CBDA-E058-4960-8A34-1229FA2D9F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6D7822-2712-4002-8A2F-D2C445B59A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2A8B52-D94C-4588-A890-835D1F5E6E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646BBC-E2E7-4473-B7ED-1D4A53D1F89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0" name="10 - Ορθογώνιο τρίγωνο"/>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7 - Ευθεία γραμμή σύνδεσης"/>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8 - Ευθεία γραμμή σύνδεσης"/>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6EE9-63D3-4A08-9C01-41568D6ED0CA}"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44" name="10 - Ορθογώνιο τρίγωνο"/>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7 - Ευθεία γραμμή σύνδεσης"/>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8 - Ευθεία γραμμή σύνδεσης"/>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9 - Ισοσκελές τρίγωνο"/>
          <p:cNvSpPr/>
          <p:nvPr/>
        </p:nvSpPr>
        <p:spPr>
          <a:xfrm rot="16200000">
            <a:off x="7553160" y="5254200"/>
            <a:ext cx="1893960" cy="1293840"/>
          </a:xfrm>
          <a:prstGeom prst="triangle">
            <a:avLst>
              <a:gd name="adj" fmla="val 51324"/>
            </a:avLst>
          </a:prstGeom>
          <a:gradFill rotWithShape="0">
            <a:gsLst>
              <a:gs pos="0">
                <a:srgbClr val="326170"/>
              </a:gs>
              <a:gs pos="100000">
                <a:srgbClr val="9bcadc"/>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1AC23-35C5-4FFB-965D-2E87067AC0A6}" type="slidenum">
              <a:rPr b="0" lang="el-GR"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89" name="10 - Ορθογώνιο τρίγωνο"/>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7 - Ευθεία γραμμή σύνδεσης"/>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8 - Ευθεία γραμμή σύνδεσης"/>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2FB9-B2B4-4484-B496-B09227AEE3B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 Ορθογώνιο τρίγωνο"/>
          <p:cNvSpPr/>
          <p:nvPr/>
        </p:nvSpPr>
        <p:spPr>
          <a:xfrm flipV="1">
            <a:off x="6480" y="612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11 - Ισοσκελές τρίγωνο"/>
          <p:cNvSpPr/>
          <p:nvPr/>
        </p:nvSpPr>
        <p:spPr>
          <a:xfrm flipV="1" rot="5400000">
            <a:off x="7553160" y="308160"/>
            <a:ext cx="1893960" cy="1293840"/>
          </a:xfrm>
          <a:prstGeom prst="triangle">
            <a:avLst>
              <a:gd name="adj" fmla="val 51324"/>
            </a:avLst>
          </a:prstGeom>
          <a:gradFill rotWithShape="0">
            <a:gsLst>
              <a:gs pos="0">
                <a:srgbClr val="326170"/>
              </a:gs>
              <a:gs pos="100000">
                <a:srgbClr val="9bcadc"/>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14 - Ευθεία γραμμή σύνδεσης"/>
          <p:cNvSpPr/>
          <p:nvPr/>
        </p:nvSpPr>
        <p:spPr>
          <a:xfrm flipH="1" flipV="1">
            <a:off x="6469200" y="900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15 - Ευθεία γραμμή σύνδεσης"/>
          <p:cNvSpPr/>
          <p:nvPr/>
        </p:nvSpPr>
        <p:spPr>
          <a:xfrm flipV="1">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C031-BDD6-4FF7-B51B-70844B81BDEB}" type="slidenum">
              <a:rPr b="0" lang="el-GR"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178" name="10 - Ορθογώνιο τρίγωνο"/>
          <p:cNvSpPr/>
          <p:nvPr/>
        </p:nvSpPr>
        <p:spPr>
          <a:xfrm>
            <a:off x="6480" y="14400"/>
            <a:ext cx="9131040" cy="6837120"/>
          </a:xfrm>
          <a:prstGeom prst="rtTriangle">
            <a:avLst/>
          </a:prstGeom>
          <a:gradFill rotWithShape="0">
            <a:gsLst>
              <a:gs pos="0">
                <a:srgbClr val="d4d2d0">
                  <a:alpha val="1176"/>
                </a:srgbClr>
              </a:gs>
              <a:gs pos="100000">
                <a:srgbClr val="d4d2d0">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7 - Ευθεία γραμμή σύνδεσης"/>
          <p:cNvSpPr/>
          <p:nvPr/>
        </p:nvSpPr>
        <p:spPr>
          <a:xfrm>
            <a:off x="0" y="6480"/>
            <a:ext cx="9137520" cy="6845040"/>
          </a:xfrm>
          <a:prstGeom prst="line">
            <a:avLst/>
          </a:prstGeom>
          <a:ln cap="rnd" w="5040">
            <a:solidFill>
              <a:srgbClr val="b7b7b7">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8 - Ευθεία γραμμή σύνδεσης"/>
          <p:cNvSpPr/>
          <p:nvPr/>
        </p:nvSpPr>
        <p:spPr>
          <a:xfrm flipH="1">
            <a:off x="6469200" y="4947480"/>
            <a:ext cx="2673360" cy="1900440"/>
          </a:xfrm>
          <a:prstGeom prst="line">
            <a:avLst/>
          </a:prstGeom>
          <a:ln cap="rnd" w="6120">
            <a:solidFill>
              <a:srgbClr val="bfbfbf">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B3D9-F81E-4A91-A10A-44922D487CE0}"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9FE3-3FDF-48CB-BA47-5A9DF27B916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A77D6-8034-439E-96F2-6AF06C4821F8}" type="slidenum">
              <a:rPr b="0" lang="el-GR"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8abacb"/>
                </a:solidFill>
                <a:latin typeface="Century Gothic"/>
              </a:rPr>
              <a:t>Click to edit the title text format</a:t>
            </a:r>
            <a:endParaRPr b="0" lang="en-US" sz="4200" spc="-1" strike="noStrike">
              <a:solidFill>
                <a:srgbClr val="8abacb"/>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6ea0b0"/>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6ea0b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3bec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C4B9-9928-4499-8687-99F10CCF05EA}" type="slidenum">
              <a:rPr b="0" lang="el-GR"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45" name="1 - Τίτλος" descr=""/>
          <p:cNvPicPr/>
          <p:nvPr/>
        </p:nvPicPr>
        <p:blipFill>
          <a:blip r:embed="rId1"/>
          <a:stretch/>
        </p:blipFill>
        <p:spPr>
          <a:xfrm>
            <a:off x="536400" y="768240"/>
            <a:ext cx="8326440" cy="1481400"/>
          </a:xfrm>
          <a:prstGeom prst="rect">
            <a:avLst/>
          </a:prstGeom>
          <a:ln w="0">
            <a:noFill/>
          </a:ln>
        </p:spPr>
      </p:pic>
      <p:sp>
        <p:nvSpPr>
          <p:cNvPr id="346" name="PlaceHolder 1"/>
          <p:cNvSpPr>
            <a:spLocks noGrp="1"/>
          </p:cNvSpPr>
          <p:nvPr>
            <p:ph type="subTitle"/>
          </p:nvPr>
        </p:nvSpPr>
        <p:spPr>
          <a:xfrm>
            <a:off x="541440" y="2249640"/>
            <a:ext cx="8061120" cy="1752480"/>
          </a:xfrm>
          <a:prstGeom prst="rect">
            <a:avLst/>
          </a:prstGeom>
          <a:noFill/>
          <a:ln w="0">
            <a:noFill/>
          </a:ln>
        </p:spPr>
        <p:txBody>
          <a:bodyPr lIns="0" rIns="0" tIns="0" bIns="0" anchor="t">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000" spc="-1" strike="noStrike">
              <a:solidFill>
                <a:srgbClr val="ffffff"/>
              </a:solidFill>
              <a:latin typeface="Century Gothic"/>
            </a:endParaRPr>
          </a:p>
        </p:txBody>
      </p:sp>
      <p:pic>
        <p:nvPicPr>
          <p:cNvPr id="347" name="3 - Εικόνα" descr="78 MME.png"/>
          <p:cNvPicPr/>
          <p:nvPr/>
        </p:nvPicPr>
        <p:blipFill>
          <a:blip r:embed="rId2"/>
          <a:stretch/>
        </p:blipFill>
        <p:spPr>
          <a:xfrm>
            <a:off x="2357280" y="2286000"/>
            <a:ext cx="4786560" cy="3983040"/>
          </a:xfrm>
          <a:prstGeom prst="rect">
            <a:avLst/>
          </a:prstGeom>
          <a:ln w="0">
            <a:noFill/>
          </a:ln>
        </p:spPr>
      </p:pic>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900240"/>
            <a:ext cx="457200" cy="1052028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800" spc="-1" strike="noStrike">
              <a:solidFill>
                <a:srgbClr val="8abacb"/>
              </a:solidFill>
              <a:latin typeface="Century Gothic"/>
            </a:endParaRPr>
          </a:p>
        </p:txBody>
      </p:sp>
      <p:sp>
        <p:nvSpPr>
          <p:cNvPr id="367" name="PlaceHolder 2"/>
          <p:cNvSpPr>
            <a:spLocks noGrp="1"/>
          </p:cNvSpPr>
          <p:nvPr>
            <p:ph/>
          </p:nvPr>
        </p:nvSpPr>
        <p:spPr>
          <a:xfrm>
            <a:off x="457200" y="691920"/>
            <a:ext cx="8229600" cy="5762520"/>
          </a:xfrm>
          <a:prstGeom prst="rect">
            <a:avLst/>
          </a:prstGeom>
          <a:noFill/>
          <a:ln w="0">
            <a:noFill/>
          </a:ln>
        </p:spPr>
        <p:txBody>
          <a:bodyPr lIns="90000" rIns="90000" tIns="46800" bIns="46800" anchor="t">
            <a:normAutofit/>
          </a:bodyPr>
          <a:p>
            <a:pPr marL="4478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Είναι σημαντίκο να κατανοήσουμε ότι τα ΜΜΕ δεν είναι απλά μέσα ενημέρωσης, αλλά στην πλειοψηφία τους είναι μέσα χειραγώγησης.Αυτό το γεγονός δεν είναι απότοκο καποιας συνομωσίας αλλα είναι παράγωγο των σχέσεων που αναπτύσσονται μέσα στο καπιταλιστίκο σύστημα.</a:t>
            </a:r>
            <a:endParaRPr b="0" lang="en-US" sz="3000" spc="-1" strike="noStrike">
              <a:solidFill>
                <a:srgbClr val="ffffff"/>
              </a:solidFill>
              <a:latin typeface="Century Gothic"/>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200" spc="-1" strike="noStrike">
              <a:solidFill>
                <a:srgbClr val="8abacb"/>
              </a:solidFill>
              <a:latin typeface="Century Gothic"/>
            </a:endParaRPr>
          </a:p>
        </p:txBody>
      </p:sp>
      <p:pic>
        <p:nvPicPr>
          <p:cNvPr id="369" name="3 - Θέση περιεχομένου" descr="mme.jpg"/>
          <p:cNvPicPr/>
          <p:nvPr/>
        </p:nvPicPr>
        <p:blipFill>
          <a:blip r:embed="rId1"/>
          <a:stretch/>
        </p:blipFill>
        <p:spPr>
          <a:xfrm>
            <a:off x="1071720" y="1500120"/>
            <a:ext cx="7189560" cy="4797360"/>
          </a:xfrm>
          <a:prstGeom prst="rect">
            <a:avLst/>
          </a:prstGeom>
          <a:ln w="0">
            <a:noFill/>
          </a:ln>
        </p:spPr>
      </p:pic>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70" name="1 - Τίτλος"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Η ομαδα:</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Κεφαλιδου Βαρβαρα</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Νατση Αννα Μαρια</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Παραλη Βαλαντω</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Σπυριδακη Χριστινα</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Στάικου Αγγελικη</a:t>
            </a:r>
            <a:endParaRPr b="0" lang="en-US" sz="3000" spc="-1" strike="noStrike">
              <a:solidFill>
                <a:srgbClr val="ffffff"/>
              </a:solidFill>
              <a:latin typeface="Century Gothic"/>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48" name="1 - Τίτλος" descr=""/>
          <p:cNvPicPr/>
          <p:nvPr/>
        </p:nvPicPr>
        <p:blipFill>
          <a:blip r:embed="rId1"/>
          <a:stretch/>
        </p:blipFill>
        <p:spPr>
          <a:xfrm>
            <a:off x="450720" y="262080"/>
            <a:ext cx="8242560" cy="1407960"/>
          </a:xfrm>
          <a:prstGeom prst="rect">
            <a:avLst/>
          </a:prstGeom>
          <a:ln w="0">
            <a:noFill/>
          </a:ln>
        </p:spPr>
      </p:pic>
      <p:sp>
        <p:nvSpPr>
          <p:cNvPr id="349" name=""/>
          <p:cNvSpPr txBox="1"/>
          <p:nvPr/>
        </p:nvSpPr>
        <p:spPr>
          <a:xfrm>
            <a:off x="457200" y="1882800"/>
            <a:ext cx="8229600" cy="2046240"/>
          </a:xfrm>
          <a:prstGeom prst="rect">
            <a:avLst/>
          </a:prstGeom>
          <a:noFill/>
          <a:ln w="0">
            <a:noFill/>
          </a:ln>
        </p:spPr>
        <p:txBody>
          <a:bodyPr lIns="90000" rIns="90000" tIns="46800" bIns="46800" anchor="t">
            <a:normAutofit/>
          </a:bodyPr>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ffffff"/>
                </a:solidFill>
                <a:latin typeface="Century Gothic"/>
              </a:rPr>
              <a:t>    </a:t>
            </a:r>
            <a:r>
              <a:rPr b="0" lang="el-GR" sz="2600" spc="-1" strike="noStrike">
                <a:solidFill>
                  <a:srgbClr val="ffffff"/>
                </a:solidFill>
                <a:latin typeface="Century Gothic"/>
              </a:rPr>
              <a:t>Για όλα τα μεγάλα προβλήματα αποφασίζει η πλειοψηφία του λαού, είτε με την εκλογή αντιπροσώπων, είτε και με δημοψηφίσματα. Πως όμως ο λαός θα μπορούσε ν’ αποφασίσει σωστά, αν δεν είναι πληροφορημένος σωστά; </a:t>
            </a:r>
            <a:endParaRPr b="0" lang="en-US" sz="2600" spc="-1" strike="noStrike">
              <a:solidFill>
                <a:srgbClr val="ffffff"/>
              </a:solidFill>
              <a:latin typeface="Century Gothic"/>
            </a:endParaRPr>
          </a:p>
          <a:p>
            <a:pPr marL="4478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a:p>
            <a:pPr marL="447840" indent="-382680">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50" name="3 - Εικόνα" descr="ORNERAKIS mme.jpg"/>
          <p:cNvPicPr/>
          <p:nvPr/>
        </p:nvPicPr>
        <p:blipFill>
          <a:blip r:embed="rId2"/>
          <a:stretch/>
        </p:blipFill>
        <p:spPr>
          <a:xfrm>
            <a:off x="2286000" y="3768840"/>
            <a:ext cx="5000760" cy="308916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51" name="1 - Τίτλος" descr=""/>
          <p:cNvPicPr/>
          <p:nvPr/>
        </p:nvPicPr>
        <p:blipFill>
          <a:blip r:embed="rId1"/>
          <a:stretch/>
        </p:blipFill>
        <p:spPr>
          <a:xfrm>
            <a:off x="450720" y="262080"/>
            <a:ext cx="827892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000" spc="-1" strike="noStrike">
                <a:solidFill>
                  <a:srgbClr val="ffffff"/>
                </a:solidFill>
                <a:latin typeface="Century Gothic"/>
              </a:rPr>
              <a:t>Προπαγάνδα</a:t>
            </a:r>
            <a:r>
              <a:rPr b="0" lang="el-GR" sz="3000" spc="-1" strike="noStrike">
                <a:solidFill>
                  <a:srgbClr val="ffffff"/>
                </a:solidFill>
                <a:latin typeface="Century Gothic"/>
              </a:rPr>
              <a:t> είναι η παρουσίαση ενός μηνύματος με έναν συγκεκριμένο τρόπο ώστε να εξυπηρετήσει συγκεκριμένους σκοπούς. Ετυμολογικά, προπαγάνδα σημαίνει «διάδοση μίας φιλοσοφίας ή άποψης». </a:t>
            </a:r>
            <a:endParaRPr b="0" lang="en-US" sz="3000" spc="-1" strike="noStrike">
              <a:solidFill>
                <a:srgbClr val="ffffff"/>
              </a:solidFill>
              <a:latin typeface="Century Gothic"/>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53" name="1 - Τίτλος"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Σκοπός της προπαγάνδας είναι να αλλάξει δραστικά τις απόψεις των άλλων αντί απλώς Για παράδειγμα, η προπαγάνδα συχνά μεταδίδεται με τέτοιον τρόπο ώστε να προκαλεί ισχυρά συναισθήματα και αυτό το κάνει κυρίως με το να υπονοεί παράλογες (μη ενορατικές) σχέσεις μεταξύ ιδεών.</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200" spc="-1" strike="noStrike">
              <a:solidFill>
                <a:srgbClr val="8abacb"/>
              </a:solidFill>
              <a:latin typeface="Century Gothic"/>
            </a:endParaRPr>
          </a:p>
        </p:txBody>
      </p:sp>
      <p:sp>
        <p:nvSpPr>
          <p:cNvPr id="35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Η </a:t>
            </a:r>
            <a:r>
              <a:rPr b="1" lang="el-GR" sz="3000" spc="-1" strike="noStrike">
                <a:solidFill>
                  <a:srgbClr val="ffffff"/>
                </a:solidFill>
                <a:latin typeface="Century Gothic"/>
              </a:rPr>
              <a:t>προπαγάνδα</a:t>
            </a:r>
            <a:r>
              <a:rPr b="0" lang="el-GR" sz="3000" spc="-1" strike="noStrike">
                <a:solidFill>
                  <a:srgbClr val="ffffff"/>
                </a:solidFill>
                <a:latin typeface="Century Gothic"/>
              </a:rPr>
              <a:t> είναι ένας μονόλογος που αναζητάει όχι απάντηση, αλλά ηχώ </a:t>
            </a:r>
            <a:r>
              <a:rPr b="1" lang="el-GR" sz="3000" spc="-1" strike="noStrike">
                <a:solidFill>
                  <a:srgbClr val="ffffff"/>
                </a:solidFill>
                <a:latin typeface="Century Gothic"/>
              </a:rPr>
              <a:t>...</a:t>
            </a:r>
            <a:r>
              <a:rPr b="0" lang="el-GR" sz="3000" spc="-1" strike="noStrike">
                <a:solidFill>
                  <a:srgbClr val="ffffff"/>
                </a:solidFill>
                <a:latin typeface="Century Gothic"/>
              </a:rPr>
              <a:t> Όλη η </a:t>
            </a:r>
            <a:r>
              <a:rPr b="1" lang="el-GR" sz="3000" spc="-1" strike="noStrike">
                <a:solidFill>
                  <a:srgbClr val="ffffff"/>
                </a:solidFill>
                <a:latin typeface="Century Gothic"/>
              </a:rPr>
              <a:t>προπαγάνδα</a:t>
            </a:r>
            <a:r>
              <a:rPr b="0" lang="el-GR" sz="3000" spc="-1" strike="noStrike">
                <a:solidFill>
                  <a:srgbClr val="ffffff"/>
                </a:solidFill>
                <a:latin typeface="Century Gothic"/>
              </a:rPr>
              <a:t> είναι ψέματα, ακόμα κι όταν λέει την αλήθεια.</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 </a:t>
            </a:r>
            <a:r>
              <a:rPr b="0" lang="el-GR" sz="3000" spc="-1" strike="noStrike">
                <a:solidFill>
                  <a:srgbClr val="ffffff"/>
                </a:solidFill>
                <a:latin typeface="Century Gothic"/>
              </a:rPr>
              <a:t>Όργουελ Τζ.</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57" name="1 - Τίτλος" descr=""/>
          <p:cNvPicPr/>
          <p:nvPr/>
        </p:nvPicPr>
        <p:blipFill>
          <a:blip r:embed="rId1"/>
          <a:stretch/>
        </p:blipFill>
        <p:spPr>
          <a:xfrm>
            <a:off x="450720" y="49320"/>
            <a:ext cx="8242560" cy="772920"/>
          </a:xfrm>
          <a:prstGeom prst="rect">
            <a:avLst/>
          </a:prstGeom>
          <a:ln w="0">
            <a:noFill/>
          </a:ln>
        </p:spPr>
      </p:pic>
      <p:sp>
        <p:nvSpPr>
          <p:cNvPr id="358" name=""/>
          <p:cNvSpPr txBox="1"/>
          <p:nvPr/>
        </p:nvSpPr>
        <p:spPr>
          <a:xfrm>
            <a:off x="428400" y="1000080"/>
            <a:ext cx="8258040" cy="5454720"/>
          </a:xfrm>
          <a:prstGeom prst="rect">
            <a:avLst/>
          </a:prstGeom>
          <a:noFill/>
          <a:ln w="0">
            <a:noFill/>
          </a:ln>
        </p:spPr>
        <p:txBody>
          <a:bodyPr lIns="90000" rIns="90000" tIns="46800" bIns="46800" anchor="t">
            <a:normAutofit/>
          </a:bodyPr>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Century Gothic"/>
              </a:rPr>
              <a:t>Όλοι, πολλοί και νέοι θεωρητικοί και ιστορικοί του τύπου, βρίσκονται σ’ ένα σημείο, σε μια διαπίστωση: ότι προϋπόθεση της ζωής και του προορισμού μιας εφημερίδας είναι η απόλυτη ελευθερία. Εδώ όμως προβάλλει και ο μεγάλος εχθρός της αληθινής δημοσιογραφίας: η προέκταση της ελευθερίας που φτάνει στην ασυδοσία.                               </a:t>
            </a:r>
            <a:endParaRPr b="0" lang="en-US" sz="3000" spc="-1" strike="noStrike">
              <a:solidFill>
                <a:srgbClr val="ffffff"/>
              </a:solidFill>
              <a:latin typeface="Century Gothic"/>
            </a:endParaRPr>
          </a:p>
          <a:p>
            <a:pPr marL="4478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59" name="1 - Τίτλος"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1143000" y="1357200"/>
            <a:ext cx="6929280" cy="3214800"/>
          </a:xfrm>
          <a:prstGeom prst="rect">
            <a:avLst/>
          </a:prstGeom>
          <a:noFill/>
          <a:ln w="0">
            <a:noFill/>
          </a:ln>
        </p:spPr>
        <p:txBody>
          <a:bodyPr lIns="90000" rIns="90000" tIns="46800" bIns="46800" anchor="t">
            <a:normAutofit/>
          </a:bodyPr>
          <a:p>
            <a:pPr marL="447840" indent="-382680">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Century Gothic"/>
              </a:rPr>
              <a:t>Ο Τύπος δεν φωτίζει μόνο, δεν πληροφορεί πάντα σωστά. Πολλές φορές συσκοτίζει. Γι’ αυτό είναι απαραίτητος ο πλουραλισμός των εφημερίδων, όπως άλλωστε είναι απαραίτητος ο πλουραλισμός των πολιτικών κομμάτων. </a:t>
            </a:r>
            <a:endParaRPr b="0" lang="en-US" sz="2800" spc="-1" strike="noStrike">
              <a:solidFill>
                <a:srgbClr val="ffffff"/>
              </a:solidFill>
              <a:latin typeface="Century Gothic"/>
            </a:endParaRPr>
          </a:p>
        </p:txBody>
      </p:sp>
      <p:pic>
        <p:nvPicPr>
          <p:cNvPr id="361" name="3 - Εικόνα" descr="images (1).jpg"/>
          <p:cNvPicPr/>
          <p:nvPr/>
        </p:nvPicPr>
        <p:blipFill>
          <a:blip r:embed="rId2"/>
          <a:stretch/>
        </p:blipFill>
        <p:spPr>
          <a:xfrm>
            <a:off x="5357880" y="4000680"/>
            <a:ext cx="3786120" cy="285732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79280" y="-4592160"/>
            <a:ext cx="277920" cy="116154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8abacb"/>
              </a:solidFill>
              <a:latin typeface="Century Gothic"/>
            </a:endParaRPr>
          </a:p>
        </p:txBody>
      </p:sp>
      <p:sp>
        <p:nvSpPr>
          <p:cNvPr id="363" name="PlaceHolder 2"/>
          <p:cNvSpPr>
            <a:spLocks noGrp="1"/>
          </p:cNvSpPr>
          <p:nvPr>
            <p:ph/>
          </p:nvPr>
        </p:nvSpPr>
        <p:spPr>
          <a:xfrm>
            <a:off x="468360" y="836640"/>
            <a:ext cx="8229600" cy="4572000"/>
          </a:xfrm>
          <a:prstGeom prst="rect">
            <a:avLst/>
          </a:prstGeom>
          <a:noFill/>
          <a:ln w="0">
            <a:noFill/>
          </a:ln>
        </p:spPr>
        <p:txBody>
          <a:bodyPr lIns="90000" rIns="90000" tIns="46800" bIns="46800" anchor="t">
            <a:normAutofit/>
          </a:bodyPr>
          <a:p>
            <a:pPr marL="4478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Ο πλουραλισμός είναι ιδεαλιστική αντίληψη συμφωνα με την οποια κάθε τι που υπαρχει αποτελειται από έναν ολοκληρο κόσμο από ανεξάρτητες οντότητες.</a:t>
            </a:r>
            <a:endParaRPr b="0" lang="en-US" sz="3000" spc="-1" strike="noStrike">
              <a:solidFill>
                <a:srgbClr val="ffffff"/>
              </a:solidFill>
              <a:latin typeface="Century Gothic"/>
            </a:endParaRPr>
          </a:p>
          <a:p>
            <a:pPr marL="4478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Arial"/>
              </a:rPr>
              <a:t>Ως πολιτική θεωρία υποστηρίζει ότι η πολιτική κυριαρχία δεν αποτελεί μονοπώλιο μιας ομαδας ή μιας τάξης αλλα πρεπει να βασιζεται στην συνεργασία του κοινωνικού συνόλου.</a:t>
            </a:r>
            <a:endParaRPr b="0" lang="en-US" sz="3000" spc="-1" strike="noStrike">
              <a:solidFill>
                <a:srgbClr val="ffffff"/>
              </a:solidFill>
              <a:latin typeface="Century Gothic"/>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2828"/>
            </a:gs>
            <a:gs pos="100000">
              <a:srgbClr val="787878"/>
            </a:gs>
          </a:gsLst>
          <a:lin ang="5400000"/>
        </a:gradFill>
      </p:bgPr>
    </p:bg>
    <p:spTree>
      <p:nvGrpSpPr>
        <p:cNvPr id="1" name=""/>
        <p:cNvGrpSpPr/>
        <p:nvPr/>
      </p:nvGrpSpPr>
      <p:grpSpPr>
        <a:xfrm>
          <a:off x="0" y="0"/>
          <a:ext cx="0" cy="0"/>
          <a:chOff x="0" y="0"/>
          <a:chExt cx="0" cy="0"/>
        </a:xfrm>
      </p:grpSpPr>
      <p:pic>
        <p:nvPicPr>
          <p:cNvPr id="364" name="1 - Τίτλος" descr=""/>
          <p:cNvPicPr/>
          <p:nvPr/>
        </p:nvPicPr>
        <p:blipFill>
          <a:blip r:embed="rId1"/>
          <a:stretch/>
        </p:blipFill>
        <p:spPr>
          <a:xfrm>
            <a:off x="450720" y="122400"/>
            <a:ext cx="8553600" cy="1547640"/>
          </a:xfrm>
          <a:prstGeom prst="rect">
            <a:avLst/>
          </a:prstGeom>
          <a:ln w="0">
            <a:noFill/>
          </a:ln>
        </p:spPr>
      </p:pic>
      <p:pic>
        <p:nvPicPr>
          <p:cNvPr id="365" name="3 - Θέση περιεχομένου" descr="ukoko.jpg"/>
          <p:cNvPicPr/>
          <p:nvPr/>
        </p:nvPicPr>
        <p:blipFill>
          <a:blip r:embed="rId2"/>
          <a:stretch/>
        </p:blipFill>
        <p:spPr>
          <a:xfrm>
            <a:off x="1643040" y="1643040"/>
            <a:ext cx="5929200" cy="5072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08:01:31Z</dcterms:created>
  <dc:creator>User</dc:creator>
  <dc:description/>
  <dc:language>en-US</dc:language>
  <cp:lastModifiedBy>Χριστινα</cp:lastModifiedBy>
  <dcterms:modified xsi:type="dcterms:W3CDTF">2013-04-23T14:51:47Z</dcterms:modified>
  <cp:revision>6</cp:revision>
  <dc:subject/>
  <dc:title>Τα ΜΜΕ στη δημοκρατια..</dc:title>
</cp:coreProperties>
</file>