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07A0F-3AD3-496A-9A7C-CA3BB0C93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D077F-7797-413E-8FEF-F155444CE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E0BEF-140D-4ED6-85EA-6DA33D5C2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47CC-432D-43B0-AE69-E344971C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447F2-39A3-4AB4-A78C-059CDD1A5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719A9-B29B-458A-97B8-AE9A458F7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64DE4-CFB6-48FE-915B-7E2E66C4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9C84D-4583-48C8-9525-45C429D0E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2EEF0-0803-48D1-9068-FA393F41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5F61-C8C7-477C-A7A0-FA243CE4B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7EFCA-26DE-47B9-9FB1-3D6CB5321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03DE-A3E4-41BC-8773-3350192EC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Arial"/>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D9E7-30F9-46BB-AAC4-EE880FE2B01E}" type="slidenum">
              <a:rPr b="0" lang="el-GR" sz="1400" spc="-1" strike="noStrike">
                <a:solidFill>
                  <a:srgbClr val="000000"/>
                </a:solidFill>
                <a:latin typeface="Arial"/>
                <a:ea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58920" y="1457280"/>
            <a:ext cx="6400800" cy="5400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Μέσα μαζικής ενημέρωσης χαρακτηρίζονται όλα τα διαθέσιμα μέσα με τα οποία μπορεί να ενημερωθεί για τα προηγούμενα και τα τρέχοντα ιστορικά γεγονότα ένα μεγάλο πλήθος ατόμων.Τα ΜΜΕ έχουν επιδράσει θετικά στην ζωή μας καθώς ο άνθρωπος μπορεί να γνωρίσει γεγονότα που δίχασαν ή ξάφνιασαν τον κόσμο.</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Το Apollo 11 προσεδαφίζεται στη Σελήνη</a:t>
            </a:r>
            <a:br>
              <a:rPr sz="2400"/>
            </a:br>
            <a:endParaRPr b="0" lang="en-US" sz="2400" spc="-1" strike="noStrike">
              <a:solidFill>
                <a:srgbClr val="000000"/>
              </a:solidFill>
              <a:latin typeface="Arial"/>
            </a:endParaRPr>
          </a:p>
        </p:txBody>
      </p:sp>
      <p:sp>
        <p:nvSpPr>
          <p:cNvPr id="43" name="PlaceHolder 2"/>
          <p:cNvSpPr>
            <a:spLocks noGrp="1"/>
          </p:cNvSpPr>
          <p:nvPr>
            <p:ph/>
          </p:nvPr>
        </p:nvSpPr>
        <p:spPr>
          <a:xfrm>
            <a:off x="250920" y="1268280"/>
            <a:ext cx="4038480" cy="5113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πλήρωμα του Apollo αντιμετώπισε προβλήματα όπω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Κινδύνους λόγω πρωτόγονης τεχνολογίας</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λιακή ακτινοβολία και θερμότητ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 name="" descr=""/>
          <p:cNvPicPr/>
          <p:nvPr/>
        </p:nvPicPr>
        <p:blipFill>
          <a:blip r:embed="rId1"/>
          <a:stretch/>
        </p:blipFill>
        <p:spPr>
          <a:xfrm>
            <a:off x="4211640" y="1413000"/>
            <a:ext cx="4707000" cy="396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Edmund Hillary «δαμάζει» το Έβερεστ</a:t>
            </a:r>
            <a:br>
              <a:rPr sz="2400"/>
            </a:br>
            <a:endParaRPr b="0" lang="en-US" sz="2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Edmund Hillary τον Μάιο του 1953 γινόταν ο πρώτος άνθρωπος που πατούσε την κορυφή του ψηλότερου βουνού του πλανήτη.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Δεν ήταν φυσικά ένας αγώνας χωρίς ανταγωνισμό: ο Hillary και ο σύντροφός του στην ανάβαση Tenzing Norgay είχαν να αντιμετωπίσουν την αντίπαλη ομάδα των ορειβατών Charles Evans και Tom Bourdillon, που είχαν τον ίδιο ακριβώς σκοπό. </a:t>
            </a:r>
            <a:endParaRPr b="0" lang="en-US" sz="2000" spc="-1" strike="noStrike">
              <a:solidFill>
                <a:srgbClr val="000000"/>
              </a:solidFill>
              <a:latin typeface="Arial"/>
            </a:endParaRPr>
          </a:p>
        </p:txBody>
      </p:sp>
      <p:pic>
        <p:nvPicPr>
          <p:cNvPr id="47" name="" descr=""/>
          <p:cNvPicPr/>
          <p:nvPr/>
        </p:nvPicPr>
        <p:blipFill>
          <a:blip r:embed="rId1"/>
          <a:stretch/>
        </p:blipFill>
        <p:spPr>
          <a:xfrm>
            <a:off x="4932360" y="1413000"/>
            <a:ext cx="40226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Charles Lindbergh στην πρώτη πτήση πάνω από τον Ατλαντικό</a:t>
            </a:r>
            <a:br>
              <a:rPr sz="2400"/>
            </a:br>
            <a:br>
              <a:rPr sz="2400"/>
            </a:br>
            <a:endParaRPr b="0" lang="en-US" sz="2400" spc="-1" strike="noStrike">
              <a:solidFill>
                <a:srgbClr val="000000"/>
              </a:solidFill>
              <a:latin typeface="Arial"/>
            </a:endParaRPr>
          </a:p>
        </p:txBody>
      </p:sp>
      <p:sp>
        <p:nvSpPr>
          <p:cNvPr id="49" name="PlaceHolder 2"/>
          <p:cNvSpPr>
            <a:spLocks noGrp="1"/>
          </p:cNvSpPr>
          <p:nvPr>
            <p:ph/>
          </p:nvPr>
        </p:nvSpPr>
        <p:spPr>
          <a:xfrm>
            <a:off x="250920" y="1628640"/>
            <a:ext cx="403848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ο μονοκινητήριο αεροσκάφος του Charles Lindbergh</a:t>
            </a:r>
            <a:r>
              <a:rPr b="1" lang="el-GR" sz="2000" spc="-1" strike="noStrike">
                <a:solidFill>
                  <a:srgbClr val="000000"/>
                </a:solidFill>
                <a:latin typeface="Arial"/>
              </a:rPr>
              <a:t> </a:t>
            </a:r>
            <a:r>
              <a:rPr b="0" lang="el-GR" sz="2000" spc="-1" strike="noStrike">
                <a:solidFill>
                  <a:srgbClr val="000000"/>
                </a:solidFill>
                <a:latin typeface="Arial"/>
              </a:rPr>
              <a:t>κατάφερε να φτάσει από τη Νέα Υόρκη στο Παρίσ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άθλος του ακούστηκε στα πέρατα της οικουμένης καθώς τα έβαλε με την ομίχλη ,το χιονόνερο και αναμετρήθηκε με το σκοτάδ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Ωστόσο 33,5 ώρες μετά την απογείωσή του ένα πλήθος ανθρώπων τον υποδέχτηκε με τιμές. </a:t>
            </a:r>
            <a:endParaRPr b="0" lang="en-US" sz="2000" spc="-1" strike="noStrike">
              <a:solidFill>
                <a:srgbClr val="000000"/>
              </a:solidFill>
              <a:latin typeface="Arial"/>
            </a:endParaRPr>
          </a:p>
        </p:txBody>
      </p:sp>
      <p:pic>
        <p:nvPicPr>
          <p:cNvPr id="50" name="" descr=""/>
          <p:cNvPicPr/>
          <p:nvPr/>
        </p:nvPicPr>
        <p:blipFill>
          <a:blip r:embed="rId1"/>
          <a:stretch/>
        </p:blipFill>
        <p:spPr>
          <a:xfrm>
            <a:off x="4356000" y="1557360"/>
            <a:ext cx="4572000" cy="432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Yuri Gagarin μπαίνει σε τροχιά γύρω από τη Γη</a:t>
            </a:r>
            <a:br>
              <a:rPr sz="2400"/>
            </a:br>
            <a:endParaRPr b="0" lang="en-US" sz="2400" spc="-1" strike="noStrike">
              <a:solidFill>
                <a:srgbClr val="000000"/>
              </a:solidFill>
              <a:latin typeface="Arial"/>
            </a:endParaRPr>
          </a:p>
        </p:txBody>
      </p:sp>
      <p:sp>
        <p:nvSpPr>
          <p:cNvPr id="52" name="PlaceHolder 2"/>
          <p:cNvSpPr>
            <a:spLocks noGrp="1"/>
          </p:cNvSpPr>
          <p:nvPr>
            <p:ph/>
          </p:nvPr>
        </p:nvSpPr>
        <p:spPr>
          <a:xfrm>
            <a:off x="250920" y="1699920"/>
            <a:ext cx="3744720" cy="48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κοσμοναύτης από τη Σοβιετική Ένωση ήταν ο πρώτος άνθρωπος στο Διάστημα: στις 12 Απριλίου 1961 έκανε μια πλήρη περιστροφή γύρω από τον πλανήτη μας και έζησε για να διηγηθεί την ιστορία!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μόλις 27 χρονών αστροναύτης επάνδρωσε το πρωτόγονο διαστημόπλοιο Vostok I και βγήκε από την ατμόσφαιρα, φτάνοντας σε ύψος 177 χιλιομέτρων από την επιφάνεια της Γης.</a:t>
            </a:r>
            <a:endParaRPr b="0" lang="en-US" sz="2000" spc="-1" strike="noStrike">
              <a:solidFill>
                <a:srgbClr val="000000"/>
              </a:solidFill>
              <a:latin typeface="Arial"/>
            </a:endParaRPr>
          </a:p>
        </p:txBody>
      </p:sp>
      <p:pic>
        <p:nvPicPr>
          <p:cNvPr id="53" name="" descr=""/>
          <p:cNvPicPr/>
          <p:nvPr/>
        </p:nvPicPr>
        <p:blipFill>
          <a:blip r:embed="rId1"/>
          <a:stretch/>
        </p:blipFill>
        <p:spPr>
          <a:xfrm>
            <a:off x="4067280" y="1484280"/>
            <a:ext cx="486720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Ο Matthew Webb διασχίζει κολυμπώντας τα στενά της Μάγχης</a:t>
            </a:r>
            <a:br>
              <a:rPr sz="2400"/>
            </a:br>
            <a:endParaRPr b="0" lang="en-US" sz="2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 27χρονος Matthew Webb έκανε κάτι που θεωρούταν ακατόρθωτο: διέσχισε κολυμπώντας τα στενά μεταξύ Αγγλίας και Γαλλίας.</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Πάλεψε με τα κύματα για 22 ολόκληρες ώρες, σε μια απόσταση 63 χιλιομέτρων, πριν ευτυχήσει τελικά να φτάσει στις ακτές του Calais, αποκαμωμένος αλλά θριαμβευτής! </a:t>
            </a:r>
            <a:endParaRPr b="0" lang="en-US" sz="2000" spc="-1" strike="noStrike">
              <a:solidFill>
                <a:srgbClr val="000000"/>
              </a:solidFill>
              <a:latin typeface="Arial"/>
            </a:endParaRPr>
          </a:p>
        </p:txBody>
      </p:sp>
      <p:pic>
        <p:nvPicPr>
          <p:cNvPr id="56" name="" descr=""/>
          <p:cNvPicPr/>
          <p:nvPr/>
        </p:nvPicPr>
        <p:blipFill>
          <a:blip r:embed="rId1"/>
          <a:stretch/>
        </p:blipFill>
        <p:spPr>
          <a:xfrm>
            <a:off x="5003640" y="1268280"/>
            <a:ext cx="3986280" cy="54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Η δολοφονία του Κένεντι </a:t>
            </a:r>
            <a:br>
              <a:rPr sz="2400"/>
            </a:br>
            <a:endParaRPr b="0" lang="en-US" sz="2400" spc="-1" strike="noStrike">
              <a:solidFill>
                <a:srgbClr val="000000"/>
              </a:solidFill>
              <a:latin typeface="Arial"/>
            </a:endParaRPr>
          </a:p>
        </p:txBody>
      </p:sp>
      <p:sp>
        <p:nvSpPr>
          <p:cNvPr id="58" name=""/>
          <p:cNvSpPr txBox="1"/>
          <p:nvPr/>
        </p:nvSpPr>
        <p:spPr>
          <a:xfrm>
            <a:off x="456840" y="1600200"/>
            <a:ext cx="346716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τις 22 Νοεμβρίου 1963 στις 12.30 ο πρόεδρος των Ηνωμένων Πολιτειών Τζον Κένεντι δολοφονήθηκε ενώ κατευθυνόταν στην εμπορική αγορά του Ντάλας.</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Η ανοιχτή λιμουζίνα του δέχτηκε συνδυασμένα πυρά, με αποτέλεσμα τον θανάσιμο τραυματισμό του προέδρου των ΗΠΑ. </a:t>
            </a:r>
            <a:endParaRPr b="0" lang="en-US" sz="2000" spc="-1" strike="noStrike">
              <a:solidFill>
                <a:srgbClr val="000000"/>
              </a:solidFill>
              <a:latin typeface="Arial"/>
            </a:endParaRPr>
          </a:p>
        </p:txBody>
      </p:sp>
      <p:pic>
        <p:nvPicPr>
          <p:cNvPr id="59" name="" descr=""/>
          <p:cNvPicPr/>
          <p:nvPr/>
        </p:nvPicPr>
        <p:blipFill>
          <a:blip r:embed="rId1"/>
          <a:stretch/>
        </p:blipFill>
        <p:spPr>
          <a:xfrm>
            <a:off x="4859280" y="1484280"/>
            <a:ext cx="3975120" cy="4969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Δίδυμοι Πύργοι </a:t>
            </a:r>
            <a:br>
              <a:rPr sz="2400"/>
            </a:br>
            <a:endParaRPr b="0" lang="en-US" sz="2400" spc="-1" strike="noStrike">
              <a:solidFill>
                <a:srgbClr val="000000"/>
              </a:solidFill>
              <a:latin typeface="Arial"/>
            </a:endParaRPr>
          </a:p>
        </p:txBody>
      </p:sp>
      <p:sp>
        <p:nvSpPr>
          <p:cNvPr id="61" name="PlaceHolder 2"/>
          <p:cNvSpPr>
            <a:spLocks noGrp="1"/>
          </p:cNvSpPr>
          <p:nvPr>
            <p:ph/>
          </p:nvPr>
        </p:nvSpPr>
        <p:spPr>
          <a:xfrm>
            <a:off x="250920" y="1557000"/>
            <a:ext cx="3673440" cy="4824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ην 11η Σεπτεμβρίου 2001 ένα αεροσκάφος προσκρούει στον βόρειο Πύργο του Παγκόσμιου Κέντρου Εμπορίου.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Σωστικά συνεργεία και δημοσιογράφοι σπεύδουν στο σημείο και λίγα λεπτά αργότερα, οι τηλεοπτικοί σταθμοί μεταδίδουν σε απευθείας σύνδεση ένα ακόμη αεροσκάφος να προσκρούει στον νότιο Πύργο του Παγκόσμιου Κέντρου Εμπορίου. </a:t>
            </a:r>
            <a:endParaRPr b="0" lang="en-US" sz="2000" spc="-1" strike="noStrike">
              <a:solidFill>
                <a:srgbClr val="000000"/>
              </a:solidFill>
              <a:latin typeface="Arial"/>
            </a:endParaRPr>
          </a:p>
        </p:txBody>
      </p:sp>
      <p:pic>
        <p:nvPicPr>
          <p:cNvPr id="62" name="" descr=""/>
          <p:cNvPicPr/>
          <p:nvPr/>
        </p:nvPicPr>
        <p:blipFill>
          <a:blip r:embed="rId1"/>
          <a:stretch/>
        </p:blipFill>
        <p:spPr>
          <a:xfrm>
            <a:off x="4284720" y="981000"/>
            <a:ext cx="461808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4T17:19:47Z</dcterms:created>
  <dc:creator>-</dc:creator>
  <dc:description/>
  <dc:language>en-US</dc:language>
  <cp:lastModifiedBy>giannis</cp:lastModifiedBy>
  <dcterms:modified xsi:type="dcterms:W3CDTF">2013-03-19T19:01:38Z</dcterms:modified>
  <cp:revision>5</cp:revision>
  <dc:subject/>
  <dc:title>Διαφάνεια 1</dc:title>
</cp:coreProperties>
</file>